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AAB-42E5-49E9-B28D-FED7A1F7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78D-4373-4FE8-A29A-B3CBD99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4B5-8F6B-42DC-A85F-BFECE997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B0F-AFB1-4CCF-B7D2-F237C758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0191-30C2-4A5E-9815-50A8615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E29-5D24-4F2A-8014-9DEDE0A0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B49-64E1-4968-A8E7-4F9725C0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90E4-CE06-405A-90AB-8EF6B6B3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204-7D15-4B60-9DD4-60083F29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FAE8-7DEC-487D-91C6-E71DAE0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3CA-720A-417E-B8C4-1E574B6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60E-49C2-4D89-A614-36D1910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2E0-4B3C-4F6D-8D0B-3A9D6E1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77B9-28CB-4189-BB08-838D75B7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5360-9209-4ECD-8157-EABE0D7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C3BB-3D4F-4950-A8F3-923E48F3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AB8-FB1D-470C-AB8E-225786C9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FBA-8381-4476-B936-538DF496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FA2-9F69-4C32-8C5D-65D2EA4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EE6-4E91-478C-886B-9AA76E1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A34-DA4A-4A9E-A7B6-5E75AF13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B4A-DC65-4C81-A95C-FBB84C8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C6C-5F7D-408B-9FE9-5FAF529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FC-1242-46F5-BC85-FCB1626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BE2-F3DE-4957-B583-FC6FE3223F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A028-9516-474B-B5F2-DA931F09B8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vement in Russi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Quynh Vu and Ethan S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aports in Russ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ost important are Kaliningrad and St. Petersbu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liningrad is Russia’s only Baltic port that remains free from ice year 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ailway Transport in Russ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lway transport in Russia mostly under the control state-run Russian monopo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railroads are in western/southern Rus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ans-Siberian railroad is in southern Russ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lroads are the most dominant mode of transpor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has one of the world’s longest webs of railw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33840" y="1600200"/>
            <a:ext cx="40388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irpo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2 Russia had a total of 2,743 air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airlines in Russia exceeds 600,000 kilo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oa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95 Russia had only 489,000 kilometers of roads open for public trave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1:00Z</dcterms:created>
  <dc:creator> </dc:creator>
  <dc:description/>
  <dc:language>en-US</dc:language>
  <cp:lastModifiedBy> </cp:lastModifiedBy>
  <dcterms:modified xsi:type="dcterms:W3CDTF">2010-12-15T14:25:39Z</dcterms:modified>
  <cp:revision>5</cp:revision>
  <dc:subject/>
  <dc:title>Seaports in Russia</dc:title>
</cp:coreProperties>
</file>